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B5B-D4AD-498E-B534-41FAA72C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7F5-8941-404A-B928-B2819F69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87F-C570-47D7-80FC-5D6417FA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7E4-9A77-4364-85A3-DD01605D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244-E868-4C2A-B6C1-4AB5E71D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4B0-2FCC-4B14-A9C3-7E83CA86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8E7-C8CA-4EEC-A9C7-4B363B26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2CC-0E89-4582-A9C9-E0584117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8E0-AD25-4052-9599-8CC76992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366-21B9-4057-B839-1FAF23BC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FF3-937F-430C-AFB1-D82A8302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C72-53B2-46A2-8378-F5CE4EC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DC546C-D01B-4DD5-91F5-67E4DD37231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78920" cy="69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0720" y="2160720"/>
            <a:ext cx="521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venir"/>
              </a:rPr>
              <a:t>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0720" y="2603520"/>
            <a:ext cx="521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venir"/>
              </a:rPr>
              <a:t>SUBTÍT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3440" y="2936880"/>
            <a:ext cx="5219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venir"/>
              </a:rPr>
              <a:t>Text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78920" cy="69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6:25:49Z</dcterms:created>
  <dc:creator>Carmen Hernandez</dc:creator>
  <dc:description/>
  <dc:language>en-US</dc:language>
  <cp:lastModifiedBy>ruben</cp:lastModifiedBy>
  <dcterms:modified xsi:type="dcterms:W3CDTF">2007-04-30T06:41:27Z</dcterms:modified>
  <cp:revision>25</cp:revision>
  <dc:subject/>
  <dc:title>Presentación de PowerPoint</dc:title>
</cp:coreProperties>
</file>