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36B-F1B5-4BBB-B833-881E08B3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AAB-D742-4950-A64C-29164140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05C-861B-4CE2-9FAB-7873CCAC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702-FD01-40FF-BB30-62C35607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6C5-4835-4B96-94F4-90324765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A3E-C24E-465F-B339-46E57FB9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D09-BFF7-4E40-8044-1944936B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6C2-F232-488D-9E9F-FAA4DAE1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0E8-D451-4DDA-B2C2-4A826E26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685-8641-4003-98DC-0E8A61B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67C-F54C-4544-8FD2-174C2C90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89A-FAAB-4048-89C5-5ADDE60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63FE2-2D2F-4785-8B37-2F1EA66F576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1739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0720" y="2160720"/>
            <a:ext cx="521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venir"/>
              </a:rPr>
              <a:t>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2603520"/>
            <a:ext cx="521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venir"/>
              </a:rPr>
              <a:t>SUBTÍT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3440" y="2936880"/>
            <a:ext cx="5219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venir"/>
              </a:rPr>
              <a:t>Text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6:25:49Z</dcterms:created>
  <dc:creator>Carmen Hernandez</dc:creator>
  <dc:description/>
  <dc:language>en-US</dc:language>
  <cp:lastModifiedBy>ruben</cp:lastModifiedBy>
  <dcterms:modified xsi:type="dcterms:W3CDTF">2007-04-30T06:41:27Z</dcterms:modified>
  <cp:revision>25</cp:revision>
  <dc:subject/>
  <dc:title>Presentación de PowerPoint</dc:title>
</cp:coreProperties>
</file>